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720-1CEB-4337-B3E0-F1071E69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EA5-18C0-4F16-AC5D-C33EA138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2B2-D335-4B2C-89A1-0849990B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6BB-316B-4992-A39C-F3A4B3A3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A437-B1A9-4C90-8DED-33BB5C34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5291-EBE0-4666-A121-40224AC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047-8B04-400E-ABF4-15299F7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B656-93BC-4EF7-B9FC-F6B4847C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E6AE-4A6E-4200-8673-A1AD5BC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5CA0-CD41-4639-93E5-9F101352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F683-D0FB-47EB-80AE-630EA53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C94-3CF5-4CFB-8E05-E3B8A724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38D2-2418-471C-8777-DF488738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9819-9FBE-4B80-856F-0412AC5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79D0-D58A-4C3A-B776-D8DE796E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B786-4DFE-40EE-B583-A0BE821A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5A99-4EAB-4075-A67A-04E18AF2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CAF-12BB-4FB4-9566-1DBA3593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561-B240-469D-AA28-1C70E7A3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ABD-F45D-435C-934E-EDFDFA84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CB8-42FD-4C15-94FE-CDA1BC8B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A11-059C-4FBA-A1F0-1378955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04A-63E1-4A67-B330-477CD4B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8F1-8BF6-40D4-984D-BE1A983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A1FE-85B6-433C-9671-632DD241D66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B08-5440-4508-B1E8-32B1EC24F84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sdl-forum.org/sdl2000present/sld001.htm" TargetMode="External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404176"/>
                </a:solidFill>
                <a:latin typeface="Arial"/>
              </a:rPr>
              <a:t>Formal methods in system design </a:t>
            </a:r>
            <a:br>
              <a:rPr sz="3600"/>
            </a:br>
            <a:r>
              <a:rPr b="0" lang="et-EE" sz="2800" spc="-1" strike="noStrike">
                <a:solidFill>
                  <a:srgbClr val="404176"/>
                </a:solidFill>
                <a:latin typeface="Arial"/>
              </a:rPr>
              <a:t>Spring 2005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383ad"/>
                </a:solidFill>
                <a:latin typeface="Arial"/>
              </a:rPr>
              <a:t>Prof. Jüri Vain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28B-F568-4938-96B4-F2A1379F396D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Method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mal = mathematic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thematical models </a:t>
            </a:r>
            <a:r>
              <a:rPr b="0" lang="et-E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precise semantic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hasize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ymbol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easoning about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bstraction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standard definition of verification falls into this categor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oo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rrow view in digital design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onl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quivalence and model checking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, but there is much mor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 esoteric: compilation in a broad sense is a formal metho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high-level description is translated into low-level description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r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cu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ool</a:t>
            </a:r>
            <a:r>
              <a:rPr b="0" lang="et-EE" sz="2000" spc="-1" strike="noStrike" u="sng">
                <a:solidFill>
                  <a:srgbClr val="003366"/>
                </a:solidFill>
                <a:uFillTx/>
                <a:latin typeface="Arial"/>
              </a:rPr>
              <a:t>-bas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easoning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bout programs and system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5B5-F06B-404F-AD4C-BC448580ADA8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Methods Class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914400" y="1981080"/>
            <a:ext cx="6477120" cy="4114800"/>
            <a:chOff x="914400" y="1981080"/>
            <a:chExt cx="6477120" cy="41148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64771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 txBox="1"/>
            <p:nvPr/>
          </p:nvSpPr>
          <p:spPr>
            <a:xfrm>
              <a:off x="914400" y="1981080"/>
              <a:ext cx="64771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7A3-C956-4AA2-94E3-A401F6606CD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Spec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= stating properties, behavior, structure of some artifact formall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rmaliz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bstracts from unnecessary implementation detail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provide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high-level mathematical model of the syste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very useful for high-level design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 when implementation details are not clear yet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llows to avoi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ambiguous or inconsistent specifications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Difficultie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no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(practical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ools for refinement / checking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good example: ASM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(Gurevich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D45-CE78-4436-AA88-B40DE886A0D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Synthesi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238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ADC-1F2A-4251-BE08-55971553A7A5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Synthesis</a:t>
            </a: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ntegrates verification in the development proce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usually pure top-down design and incremental refinement step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plits large verification tasks (divide et impera)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but forces dramatic change in development proce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t works but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s costl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ach refinement step uses formal verification method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re powerful verification algorithms allow more autom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ood example: B-Metho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2F1-066F-4A3D-9F6E-B06D91FA471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Layered System Desig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29200" cy="26622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590920" y="432756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no implementation without Synthesi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rification is added value (Qualit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both processes are increment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both processes can be formal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ze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EEF-5392-4C37-B8C3-47E2BD7875D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Ver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Gener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ssumption: specification and system are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1200"/>
                </a:solidFill>
                <a:latin typeface="Arial"/>
                <a:ea typeface="Arial"/>
              </a:rPr>
              <a:t>formal verification checks 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whether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  <a:ea typeface="Arial"/>
              </a:rPr>
              <a:t> 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implementations satisfies properties of 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  <a:ea typeface="Arial"/>
              </a:rPr>
              <a:t>specification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 or not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full blown verification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,e.g.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“post mortem verification” is difficult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implifications: focus on simple partial specifications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eature orienta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ype safety, functional equivalence of systems,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ethods (implemented in tools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imple algorithms for deducing properties directl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mplex algorithms for hard or even undecidable problem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D70-AD7A-4C55-96B9-151CAF99081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boolean metho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AT, BDDs, ATPG, Combinational Equivalence Check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finite state metho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Bisimulation and Equivalence Checking of Automata,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del Check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erm based metho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erm Rewriting, Resolution, Tableaux, Theorem Prov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bstraction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(eg SLAM uses BDDs, Model Checking, Theorem Proving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544-CCDE-4EE0-86EB-5337F3B1583B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3366"/>
                </a:solidFill>
                <a:latin typeface="Arial"/>
              </a:rPr>
              <a:t>Foci of the cours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rmal techniques: deductive verification, MC, refineme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ools representing different theoretical background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How does it work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"/>
              </a:rPr>
              <a:t>Arhitecture/ Capacity and restric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Theoretical backgroun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"/>
              </a:rPr>
              <a:t>Semantics / Algorithms / Datastructur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Tool in work: hands-on experience with Uppaal, Blast, PVS, 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Labs: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Read-write over unreliable channel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Self-stabilizing system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FMS schedulin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A15-B797-4E7B-9A6C-AF8EC2FD473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erver for experi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ols that run under Linux will be available in this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hin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have X server (you run Linux, FreeBSD,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OSX, ...) then just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Unicode MS"/>
              </a:rPr>
              <a:t>&gt; ssh -X dijkstra.cs.ttu.e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 Windows you need additional software, e.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Win32 (commercial), to run programs with GU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m dikstra.cs.ttu.ee. You can use shell account b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e.g. Putty as the clien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86F-781B-4A25-8785-16C0BD3B33BC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Course organization 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Lecture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Wednesday 10.00 – 11.3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Room IT14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Lab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Wednesday 12.00 – 13.3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Room IT213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F47-7540-46E5-A7D1-6A217731DC2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Home read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Formal methods homepage http://vl.fmnet.info/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 Unicode MS"/>
                <a:ea typeface="Times New Roman"/>
              </a:rPr>
              <a:t>Formal Methods Europe: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383ad"/>
                </a:solidFill>
                <a:latin typeface="Arial Unicode MS"/>
                <a:ea typeface="Times New Roman"/>
              </a:rPr>
              <a:t>www.fmeurope.or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Mike Gordon: Specification and Verification 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.</a:t>
            </a: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8383ad"/>
                </a:solidFill>
                <a:latin typeface="Arial"/>
              </a:rPr>
              <a:t>www.cl.cam.ac.uk/users/mjcg/Teaching/SpecVer1/SpecVer1.html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Z- method http://www.cs.uiowa.edu/~fleck/181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ASM http://www.di.unipi.it/~boerger/LC01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SDL </a:t>
            </a: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http://www.sdl-forum.org/sdl2000present/sld001.ht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ttp://www.sdl-forum.org/sdl2000present/tsld001.ht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Model checker: Uppaal:  www.docs.uu.se and www.uppaal.com</a:t>
            </a:r>
            <a:br>
              <a:rPr sz="2000"/>
            </a:b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51B-78ED-40D4-AC60-1D36437F297B}" type="slidenum">
              <a:t>20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Course organization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16 lectures, 16 lab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3 (small) projec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3 tests (&gt; 60% means pas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Exam (written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6A4-1B32-4D69-865A-C7001809F87F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Topics covere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Foundations: models &amp; specifica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Deductive verification of programs using Hoare logi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Algorithmic verification by model chec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Verification of RT- and Hybrid Dynamic Syste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Verifying fault-tolera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Formal methods for synthes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Formal methods and tes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8F4-6F9E-4CB8-9D14-2C3D35A67E5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66680" y="2438280"/>
            <a:ext cx="7086600" cy="6858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3200400"/>
            <a:ext cx="7086600" cy="7621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ncreasing 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omplex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ty of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syste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oore’s Law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 The performance of microprocessors doubles every 18 month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t-EE" sz="2400" spc="-1" strike="noStrike">
                <a:solidFill>
                  <a:srgbClr val="003366"/>
                </a:solidFill>
                <a:latin typeface="Arial"/>
              </a:rPr>
              <a:t>Proebsting’s law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 Compiler technology doubles the performance of typical programs every 18 year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on 1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transistors/processo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ulti-million LOC / O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xploding testing </a:t>
            </a:r>
            <a:r>
              <a:rPr b="0" lang="en-US" sz="2400" spc="-1" strike="noStrike" u="sng">
                <a:solidFill>
                  <a:srgbClr val="fe1200"/>
                </a:solidFill>
                <a:uFillTx/>
                <a:latin typeface="Arial"/>
                <a:ea typeface="Times New Roman"/>
              </a:rPr>
              <a:t>cos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! Cost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 general not linear in system size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Times New Roman"/>
              </a:rPr>
              <a:t>Motivation</a:t>
            </a:r>
            <a:r>
              <a:rPr b="0" lang="et-EE" sz="3600" spc="-1" strike="noStrike">
                <a:solidFill>
                  <a:srgbClr val="404176"/>
                </a:solidFill>
                <a:latin typeface="Arial"/>
              </a:rPr>
              <a:t> I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F41-F070-44BA-A2EE-07C95B002CB1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Motivation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creased dependability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ything important depends on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mputers: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ir by wire, banking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ock market, workflow,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 u="sng">
                <a:solidFill>
                  <a:srgbClr val="fe1200"/>
                </a:solidFill>
                <a:uFillTx/>
                <a:latin typeface="Arial"/>
              </a:rPr>
              <a:t>Q</a:t>
            </a:r>
            <a:r>
              <a:rPr b="0" lang="en-US" sz="2400" spc="-1" strike="noStrike" u="sng">
                <a:solidFill>
                  <a:srgbClr val="fe1200"/>
                </a:solidFill>
                <a:uFillTx/>
                <a:latin typeface="Arial"/>
                <a:ea typeface="Times New Roman"/>
              </a:rPr>
              <a:t>uality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oncer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creased functionality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ecurity, mobility, new business processes, 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533920" y="1905120"/>
            <a:ext cx="220500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971-AE05-48BA-A215-9B2F1A5DE21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Test &amp; Ver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andard defin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xecution /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imu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f a syste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Present view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: test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have to b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gra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velopment proces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treme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 view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sting should “drive” the development proce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erific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andard defin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tatic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ecking,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ymbol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xec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dware design: verification is the process of test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ur view: Test </a:t>
            </a: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ific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5A0-6756-4BE0-8FA1-E68EB982505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ypically &gt;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0% of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development costs ar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cated to test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ing and verification are the bottleneck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f developme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ality dilemma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rop quality for more featur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Challenge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fficient methods for test and verification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r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ed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Currently 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</a:rPr>
              <a:t>ormal verific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the most promising approach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re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formal verification </a:t>
            </a: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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</a:rPr>
              <a:t>form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(model-based)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perts in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rmal method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badly needed in high-tech industr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0B3-D107-445C-873F-BAC6B425DA6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3240" y="2975040"/>
            <a:ext cx="1828080" cy="15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908600" y="2975040"/>
            <a:ext cx="16120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4921200" y="2895120"/>
            <a:ext cx="1434240" cy="25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11" y="57"/>
                </a:moveTo>
                <a:arcTo wR="10800" hR="10800" stAng="-5045712" swAng="5045712"/>
                <a:lnTo>
                  <a:pt x="10800" y="10800"/>
                </a:lnTo>
                <a:close/>
              </a:path>
              <a:path fill="none" w="21600" h="21600">
                <a:moveTo>
                  <a:pt x="11911" y="57"/>
                </a:moveTo>
                <a:arcTo wR="10800" hR="10800" stAng="-5045712" swAng="5045712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092560" y="2822040"/>
            <a:ext cx="1702080" cy="273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04" y="584"/>
                </a:moveTo>
                <a:arcTo wR="10800" hR="10800" stAng="-4264189" swAng="4026350"/>
                <a:lnTo>
                  <a:pt x="10800" y="10800"/>
                </a:lnTo>
                <a:close/>
              </a:path>
              <a:path fill="none" w="21600" h="21600">
                <a:moveTo>
                  <a:pt x="14304" y="584"/>
                </a:moveTo>
                <a:arcTo wR="10800" hR="10800" stAng="-4264189" swAng="40263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371240" y="3809880"/>
            <a:ext cx="290880" cy="587520"/>
            <a:chOff x="1371240" y="3809880"/>
            <a:chExt cx="290880" cy="587520"/>
          </a:xfrm>
        </p:grpSpPr>
        <p:sp>
          <p:nvSpPr>
            <p:cNvPr id="404" name=""/>
            <p:cNvSpPr/>
            <p:nvPr/>
          </p:nvSpPr>
          <p:spPr>
            <a:xfrm>
              <a:off x="1436040" y="3809880"/>
              <a:ext cx="16164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00480" y="397764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403640" y="422892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00480" y="422928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500480" y="3977640"/>
              <a:ext cx="1616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371240" y="3977640"/>
              <a:ext cx="1292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691080" y="410220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76520" y="3733920"/>
            <a:ext cx="457200" cy="344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830400" y="3787920"/>
            <a:ext cx="292320" cy="587160"/>
            <a:chOff x="3830400" y="3787920"/>
            <a:chExt cx="292320" cy="587160"/>
          </a:xfrm>
        </p:grpSpPr>
        <p:sp>
          <p:nvSpPr>
            <p:cNvPr id="413" name=""/>
            <p:cNvSpPr/>
            <p:nvPr/>
          </p:nvSpPr>
          <p:spPr>
            <a:xfrm>
              <a:off x="3895560" y="3787920"/>
              <a:ext cx="16236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0360" y="395532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863160" y="420660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0360" y="420696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960360" y="3955320"/>
              <a:ext cx="1623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3830400" y="3955320"/>
              <a:ext cx="129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714640" y="3657600"/>
            <a:ext cx="290880" cy="587520"/>
            <a:chOff x="5714640" y="3657600"/>
            <a:chExt cx="290880" cy="587520"/>
          </a:xfrm>
        </p:grpSpPr>
        <p:sp>
          <p:nvSpPr>
            <p:cNvPr id="420" name=""/>
            <p:cNvSpPr/>
            <p:nvPr/>
          </p:nvSpPr>
          <p:spPr>
            <a:xfrm>
              <a:off x="5779440" y="3657600"/>
              <a:ext cx="16164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43880" y="382536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47040" y="407664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43880" y="407700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843880" y="3825360"/>
              <a:ext cx="1616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5714640" y="3825360"/>
              <a:ext cx="1292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640120" y="5280120"/>
            <a:ext cx="292320" cy="587160"/>
            <a:chOff x="5640120" y="5280120"/>
            <a:chExt cx="292320" cy="587160"/>
          </a:xfrm>
        </p:grpSpPr>
        <p:sp>
          <p:nvSpPr>
            <p:cNvPr id="427" name=""/>
            <p:cNvSpPr/>
            <p:nvPr/>
          </p:nvSpPr>
          <p:spPr>
            <a:xfrm>
              <a:off x="5705280" y="5280120"/>
              <a:ext cx="16236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70080" y="544752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672880" y="569880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70080" y="569916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770080" y="5447520"/>
              <a:ext cx="1623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5640120" y="5447520"/>
              <a:ext cx="129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649840" y="2514600"/>
            <a:ext cx="292320" cy="587520"/>
            <a:chOff x="5649840" y="2514600"/>
            <a:chExt cx="292320" cy="587520"/>
          </a:xfrm>
        </p:grpSpPr>
        <p:sp>
          <p:nvSpPr>
            <p:cNvPr id="434" name=""/>
            <p:cNvSpPr/>
            <p:nvPr/>
          </p:nvSpPr>
          <p:spPr>
            <a:xfrm>
              <a:off x="5714640" y="2514600"/>
              <a:ext cx="16272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79440" y="268236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682240" y="293364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79440" y="293400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779440" y="2682360"/>
              <a:ext cx="16272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649840" y="2682360"/>
              <a:ext cx="13032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99120" y="3886200"/>
            <a:ext cx="1126800" cy="360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SPEC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76640" y="410220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7840" y="410220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53040" y="4106880"/>
            <a:ext cx="1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41960" y="5791320"/>
            <a:ext cx="116532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Verifi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2514600"/>
            <a:ext cx="1600200" cy="849240"/>
          </a:xfrm>
          <a:prstGeom prst="cloudCallout">
            <a:avLst>
              <a:gd name="adj1" fmla="val -7439"/>
              <a:gd name="adj2" fmla="val 943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629400" y="4343400"/>
            <a:ext cx="1676520" cy="863640"/>
          </a:xfrm>
          <a:prstGeom prst="cloudCallout">
            <a:avLst>
              <a:gd name="adj1" fmla="val -89393"/>
              <a:gd name="adj2" fmla="val 580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19920" y="1676520"/>
            <a:ext cx="2133360" cy="742680"/>
          </a:xfrm>
          <a:prstGeom prst="cloudCallout">
            <a:avLst>
              <a:gd name="adj1" fmla="val -54240"/>
              <a:gd name="adj2" fmla="val 6431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889440"/>
            <a:ext cx="1527120" cy="534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"/>
              </a:rPr>
              <a:t>Informal requirement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24480" y="3809880"/>
            <a:ext cx="1244880" cy="424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Us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1720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Does the pgm. what’s expected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Ideas&amp; wish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Subscrib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4495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Analy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41590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 Unicode MS"/>
              </a:rPr>
              <a:t>Develop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0" y="4419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Is the pgm. correct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2133720"/>
            <a:ext cx="2210040" cy="863640"/>
          </a:xfrm>
          <a:prstGeom prst="cloudCallout">
            <a:avLst>
              <a:gd name="adj1" fmla="val -9194"/>
              <a:gd name="adj2" fmla="val 137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76720" y="2362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How to formalize?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648320"/>
            <a:ext cx="1127160" cy="360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Bug repor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7913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79132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5257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All other feedback flows also possible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C7A-02A0-486C-8B3E-2F9314AAA6B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1:41:57Z</dcterms:created>
  <dc:creator>vain</dc:creator>
  <dc:description/>
  <dc:language>en-US</dc:language>
  <cp:lastModifiedBy>vain</cp:lastModifiedBy>
  <dcterms:modified xsi:type="dcterms:W3CDTF">2005-02-08T20:59:21Z</dcterms:modified>
  <cp:revision>52</cp:revision>
  <dc:subject/>
  <dc:title>Formal methods: verification (fall 2004)</dc:title>
</cp:coreProperties>
</file>